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271-2A1F-4FCE-ACCE-75B34EB8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DB7-579A-487D-886E-C4DA748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CBE-F0AD-428D-AD3C-206D0FE6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E7E-4E19-426F-95BD-7163BE0E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C97-0ED3-4A8A-A6A5-39B22EB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451-8E00-4605-B7B1-3E7552F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D55-7250-4E49-B6C8-464D5179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1AC-A2F1-493B-9361-80877FE0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BDD-3151-4D37-88FC-4F232C7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49-B871-466B-9C2D-5EBA3C7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79A-C485-4CE8-8011-18D8CBB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301-B35B-42BA-B747-5CE1C70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117-B51D-49DE-B178-0C67616D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8.png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.png"/><Relationship Id="rId29" Type="http://schemas.openxmlformats.org/officeDocument/2006/relationships/image" Target="../media/image1.jpeg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4.png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4.png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3.png"/><Relationship Id="rId41" Type="http://schemas.openxmlformats.org/officeDocument/2006/relationships/image" Target="../media/image6.pn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54144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3203640" y="3068640"/>
          <a:ext cx="59508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068640"/>
                    <a:ext cx="595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916360" y="3355920"/>
          <a:ext cx="3254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355920"/>
                    <a:ext cx="325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060720" y="4365720"/>
          <a:ext cx="750960" cy="87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0720" y="436572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1116000" y="2997360"/>
            <a:ext cx="282600" cy="776880"/>
            <a:chOff x="1116000" y="2997360"/>
            <a:chExt cx="282600" cy="776880"/>
          </a:xfrm>
        </p:grpSpPr>
        <p:sp>
          <p:nvSpPr>
            <p:cNvPr id="49" name=""/>
            <p:cNvSpPr/>
            <p:nvPr/>
          </p:nvSpPr>
          <p:spPr>
            <a:xfrm>
              <a:off x="121932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23480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14696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11600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11600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22112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4560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17648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35800" y="3988080"/>
            <a:ext cx="321480" cy="807120"/>
            <a:chOff x="1135800" y="3988080"/>
            <a:chExt cx="321480" cy="807120"/>
          </a:xfrm>
        </p:grpSpPr>
        <p:sp>
          <p:nvSpPr>
            <p:cNvPr id="58" name=""/>
            <p:cNvSpPr/>
            <p:nvPr/>
          </p:nvSpPr>
          <p:spPr>
            <a:xfrm rot="21057000">
              <a:off x="121788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18008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0888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5632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3580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19844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0636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17216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8480" y="1968840"/>
            <a:ext cx="329760" cy="811800"/>
            <a:chOff x="1068480" y="1968840"/>
            <a:chExt cx="329760" cy="811800"/>
          </a:xfrm>
        </p:grpSpPr>
        <p:sp>
          <p:nvSpPr>
            <p:cNvPr id="67" name=""/>
            <p:cNvSpPr/>
            <p:nvPr/>
          </p:nvSpPr>
          <p:spPr>
            <a:xfrm rot="20918400">
              <a:off x="114408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9332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15200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9404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848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111960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12356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109836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00000" y="981000"/>
            <a:ext cx="282600" cy="777600"/>
            <a:chOff x="900000" y="981000"/>
            <a:chExt cx="282600" cy="777600"/>
          </a:xfrm>
        </p:grpSpPr>
        <p:sp>
          <p:nvSpPr>
            <p:cNvPr id="76" name=""/>
            <p:cNvSpPr/>
            <p:nvPr/>
          </p:nvSpPr>
          <p:spPr>
            <a:xfrm>
              <a:off x="100332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1880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096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0000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90000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00512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60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96048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67320" y="4947480"/>
            <a:ext cx="465840" cy="794880"/>
            <a:chOff x="967320" y="4947480"/>
            <a:chExt cx="465840" cy="794880"/>
          </a:xfrm>
        </p:grpSpPr>
        <p:sp>
          <p:nvSpPr>
            <p:cNvPr id="85" name=""/>
            <p:cNvSpPr/>
            <p:nvPr/>
          </p:nvSpPr>
          <p:spPr>
            <a:xfrm rot="1009800">
              <a:off x="114516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26360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96732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7776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01592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19232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24488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1672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80920" y="5862600"/>
            <a:ext cx="282600" cy="777600"/>
            <a:chOff x="880920" y="5862600"/>
            <a:chExt cx="282600" cy="777600"/>
          </a:xfrm>
        </p:grpSpPr>
        <p:sp>
          <p:nvSpPr>
            <p:cNvPr id="94" name=""/>
            <p:cNvSpPr/>
            <p:nvPr/>
          </p:nvSpPr>
          <p:spPr>
            <a:xfrm>
              <a:off x="98424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9972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1188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8092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88092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98604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01052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94140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00000" y="0"/>
            <a:ext cx="282600" cy="777600"/>
            <a:chOff x="900000" y="0"/>
            <a:chExt cx="282600" cy="777600"/>
          </a:xfrm>
        </p:grpSpPr>
        <p:sp>
          <p:nvSpPr>
            <p:cNvPr id="103" name=""/>
            <p:cNvSpPr/>
            <p:nvPr/>
          </p:nvSpPr>
          <p:spPr>
            <a:xfrm>
              <a:off x="100332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01880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93096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0000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90000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00512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2960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96048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276640"/>
          <a:ext cx="750960" cy="87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7664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83528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19640" y="1719360"/>
          <a:ext cx="62064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719360"/>
                    <a:ext cx="62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060720" y="1771560"/>
          <a:ext cx="32544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60720" y="1771560"/>
                    <a:ext cx="325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4800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А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213080" y="4219560"/>
            <a:ext cx="32544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500720" y="393372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24920" y="346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8307360" y="274320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5280" y="3573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645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вой порядок артиллерийской батар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41440" y="2997360"/>
            <a:ext cx="282600" cy="776880"/>
            <a:chOff x="541440" y="2997360"/>
            <a:chExt cx="282600" cy="776880"/>
          </a:xfrm>
        </p:grpSpPr>
        <p:sp>
          <p:nvSpPr>
            <p:cNvPr id="129" name=""/>
            <p:cNvSpPr/>
            <p:nvPr/>
          </p:nvSpPr>
          <p:spPr>
            <a:xfrm>
              <a:off x="64476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024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7240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144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4144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4656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104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0192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1240" y="3988080"/>
            <a:ext cx="321480" cy="807120"/>
            <a:chOff x="561240" y="3988080"/>
            <a:chExt cx="321480" cy="807120"/>
          </a:xfrm>
        </p:grpSpPr>
        <p:sp>
          <p:nvSpPr>
            <p:cNvPr id="138" name=""/>
            <p:cNvSpPr/>
            <p:nvPr/>
          </p:nvSpPr>
          <p:spPr>
            <a:xfrm rot="21057000">
              <a:off x="64332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552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432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176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124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2388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3180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9760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920" y="1968840"/>
            <a:ext cx="329760" cy="811800"/>
            <a:chOff x="493920" y="1968840"/>
            <a:chExt cx="329760" cy="811800"/>
          </a:xfrm>
        </p:grpSpPr>
        <p:sp>
          <p:nvSpPr>
            <p:cNvPr id="147" name=""/>
            <p:cNvSpPr/>
            <p:nvPr/>
          </p:nvSpPr>
          <p:spPr>
            <a:xfrm rot="20918400">
              <a:off x="56952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76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7744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948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92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4504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900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2380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5440" y="981000"/>
            <a:ext cx="282600" cy="777600"/>
            <a:chOff x="325440" y="981000"/>
            <a:chExt cx="282600" cy="777600"/>
          </a:xfrm>
        </p:grpSpPr>
        <p:sp>
          <p:nvSpPr>
            <p:cNvPr id="156" name=""/>
            <p:cNvSpPr/>
            <p:nvPr/>
          </p:nvSpPr>
          <p:spPr>
            <a:xfrm>
              <a:off x="42876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424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640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544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2544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3056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504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8592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760" y="4947480"/>
            <a:ext cx="465840" cy="794880"/>
            <a:chOff x="392760" y="4947480"/>
            <a:chExt cx="465840" cy="794880"/>
          </a:xfrm>
        </p:grpSpPr>
        <p:sp>
          <p:nvSpPr>
            <p:cNvPr id="165" name=""/>
            <p:cNvSpPr/>
            <p:nvPr/>
          </p:nvSpPr>
          <p:spPr>
            <a:xfrm rot="1009800">
              <a:off x="57060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904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9276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20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4136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76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7032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216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6360" y="5862600"/>
            <a:ext cx="282600" cy="777600"/>
            <a:chOff x="306360" y="5862600"/>
            <a:chExt cx="282600" cy="777600"/>
          </a:xfrm>
        </p:grpSpPr>
        <p:sp>
          <p:nvSpPr>
            <p:cNvPr id="174" name=""/>
            <p:cNvSpPr/>
            <p:nvPr/>
          </p:nvSpPr>
          <p:spPr>
            <a:xfrm>
              <a:off x="40968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516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732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636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636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8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3596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6684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5440" y="0"/>
            <a:ext cx="282600" cy="777600"/>
            <a:chOff x="325440" y="0"/>
            <a:chExt cx="282600" cy="777600"/>
          </a:xfrm>
        </p:grpSpPr>
        <p:sp>
          <p:nvSpPr>
            <p:cNvPr id="183" name=""/>
            <p:cNvSpPr/>
            <p:nvPr/>
          </p:nvSpPr>
          <p:spPr>
            <a:xfrm>
              <a:off x="42876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4424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2544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2544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3056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504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8592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73080" y="836640"/>
            <a:ext cx="7201080" cy="2455920"/>
            <a:chOff x="973080" y="836640"/>
            <a:chExt cx="7201080" cy="24559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308720" y="234792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3" name=""/>
            <p:cNvGraphicFramePr/>
            <p:nvPr/>
          </p:nvGraphicFramePr>
          <p:xfrm>
            <a:off x="3276720" y="836640"/>
            <a:ext cx="595080" cy="74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836640"/>
                      <a:ext cx="59508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989440" y="1123920"/>
            <a:ext cx="325440" cy="628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112392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348000" y="1844640"/>
            <a:ext cx="750960" cy="878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8000" y="18446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385128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973080" y="1198440"/>
            <a:ext cx="750960" cy="878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73080" y="11984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476360" y="17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8360" y="1341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8360" y="2924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евой порядок артиллерийского дивиз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4720" y="4365720"/>
            <a:ext cx="7057800" cy="2493720"/>
            <a:chOff x="1044720" y="4365720"/>
            <a:chExt cx="7057800" cy="2493720"/>
          </a:xfrm>
        </p:grpSpPr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>
              <a:off x="7237440" y="458136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8" name=""/>
            <p:cNvGraphicFramePr/>
            <p:nvPr/>
          </p:nvGraphicFramePr>
          <p:xfrm>
            <a:off x="3852720" y="4940280"/>
            <a:ext cx="595440" cy="74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2720" y="4940280"/>
                      <a:ext cx="5954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3565440" y="5227560"/>
            <a:ext cx="325440" cy="62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65440" y="522756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89440" y="5915160"/>
            <a:ext cx="750600" cy="87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591516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492360" y="6491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1044720" y="5589720"/>
            <a:ext cx="750600" cy="87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44720" y="558972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1547640" y="616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5445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3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7080" y="43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26920" y="2421000"/>
            <a:ext cx="1224000" cy="871560"/>
            <a:chOff x="826920" y="2421000"/>
            <a:chExt cx="1224000" cy="871560"/>
          </a:xfrm>
        </p:grpSpPr>
        <p:pic>
          <p:nvPicPr>
            <p:cNvPr id="221" name="" descr=""/>
            <p:cNvPicPr/>
            <p:nvPr/>
          </p:nvPicPr>
          <p:blipFill>
            <a:blip r:embed="rId19"/>
            <a:stretch/>
          </p:blipFill>
          <p:spPr>
            <a:xfrm>
              <a:off x="826920" y="2565360"/>
              <a:ext cx="325440" cy="628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2" name=""/>
            <p:cNvGraphicFramePr/>
            <p:nvPr/>
          </p:nvGraphicFramePr>
          <p:xfrm>
            <a:off x="1000080" y="2719440"/>
            <a:ext cx="576360" cy="3175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00080" y="2719440"/>
                      <a:ext cx="5763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111600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42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-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076720" y="2349360"/>
          <a:ext cx="77796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2349360"/>
                    <a:ext cx="777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4788000" y="2924280"/>
            <a:ext cx="325440" cy="628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0280" y="333540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852640"/>
            <a:ext cx="7631280" cy="2529000"/>
            <a:chOff x="1116000" y="2852640"/>
            <a:chExt cx="7631280" cy="2529000"/>
          </a:xfrm>
        </p:grpSpPr>
        <p:graphicFrame>
          <p:nvGraphicFramePr>
            <p:cNvPr id="231" name=""/>
            <p:cNvGraphicFramePr/>
            <p:nvPr/>
          </p:nvGraphicFramePr>
          <p:xfrm>
            <a:off x="2484360" y="4437000"/>
            <a:ext cx="750960" cy="878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484360" y="443700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8764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000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706920" y="2852640"/>
            <a:ext cx="595080" cy="749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06920" y="2852640"/>
                      <a:ext cx="595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8205840" y="350208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8" name=""/>
            <p:cNvGraphicFramePr/>
            <p:nvPr/>
          </p:nvGraphicFramePr>
          <p:xfrm>
            <a:off x="3419640" y="3139920"/>
            <a:ext cx="325440" cy="6289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419640" y="3139920"/>
                      <a:ext cx="325440" cy="6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1116000" y="3502080"/>
            <a:ext cx="750960" cy="87768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116000" y="3502080"/>
                      <a:ext cx="75096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1619280" y="4078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64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2989440" y="3716280"/>
          <a:ext cx="750600" cy="8780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989440" y="3716280"/>
                    <a:ext cx="7506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92360" y="429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24720" y="3284640"/>
          <a:ext cx="385920" cy="8539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524720" y="3284640"/>
                    <a:ext cx="385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236000" y="4076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08360" y="2637000"/>
            <a:ext cx="71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67640" y="3933360"/>
            <a:ext cx="100800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40360" y="2492280"/>
            <a:ext cx="9349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7885080" y="2421000"/>
            <a:ext cx="741240" cy="8017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052720" y="2655720"/>
            <a:ext cx="1582560" cy="854280"/>
            <a:chOff x="2052720" y="2655720"/>
            <a:chExt cx="1582560" cy="854280"/>
          </a:xfrm>
        </p:grpSpPr>
        <p:sp>
          <p:nvSpPr>
            <p:cNvPr id="255" name=""/>
            <p:cNvSpPr/>
            <p:nvPr/>
          </p:nvSpPr>
          <p:spPr>
            <a:xfrm>
              <a:off x="2340000" y="3141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НАР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9"/>
            <a:stretch/>
          </p:blipFill>
          <p:spPr>
            <a:xfrm>
              <a:off x="2411280" y="2655720"/>
              <a:ext cx="6210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0"/>
            <a:stretch/>
          </p:blipFill>
          <p:spPr>
            <a:xfrm>
              <a:off x="2052720" y="2708280"/>
              <a:ext cx="32544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7848720" y="306864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1"/>
          <a:stretch/>
        </p:blipFill>
        <p:spPr>
          <a:xfrm>
            <a:off x="7885080" y="2349360"/>
            <a:ext cx="741240" cy="80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2">
            <a:lum contrast="12000"/>
          </a:blip>
          <a:stretch/>
        </p:blipFill>
        <p:spPr>
          <a:xfrm rot="21224400">
            <a:off x="5651640" y="836280"/>
            <a:ext cx="396720" cy="722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3">
            <a:lum contrast="12000"/>
          </a:blip>
          <a:stretch/>
        </p:blipFill>
        <p:spPr>
          <a:xfrm rot="21224400">
            <a:off x="6351480" y="6033600"/>
            <a:ext cx="397080" cy="72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 flipV="1">
            <a:off x="6012360" y="1434600"/>
            <a:ext cx="647640" cy="4726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6237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П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836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47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549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6165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659280" y="836280"/>
            <a:ext cx="73080" cy="5545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908680" y="2884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1,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724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330880" y="620640"/>
            <a:ext cx="71280" cy="583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2:26Z</dcterms:created>
  <dc:creator>Виктор Ф.</dc:creator>
  <dc:description/>
  <dc:language>en-US</dc:language>
  <cp:lastModifiedBy>Виктор Ф.</cp:lastModifiedBy>
  <dcterms:modified xsi:type="dcterms:W3CDTF">2007-12-17T12:13:00Z</dcterms:modified>
  <cp:revision>6</cp:revision>
  <dc:subject/>
  <dc:title>Слайд 1</dc:title>
</cp:coreProperties>
</file>